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945D-3A68-43A0-B552-40188321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4F86-D66D-4EE9-A905-063D41C0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0E6-96BC-4A1E-BB8A-452E0466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4A6-1E57-49AD-82CB-B3E5C1CA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38E8-4225-42CF-AF84-99E9128D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22F-B706-45D9-AD1C-8C01718E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2DD-4B0D-4210-A98A-251D53CF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A79-D8A7-49FB-8C9D-EFAA786E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A3E-9F3C-4FC4-B45C-0725A293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CAFA-CFF0-4639-8EED-B2413721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C94-C269-4272-BBDC-D83AEFC7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733-BEA9-4606-B11A-EA0C0BBC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0027-8944-49E7-AD3D-5E8C0CE79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فرح بمصائب المسلمين والحزن لسرو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0680" y="1989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قضاء والقدر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إيمان بالقضاء وال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ه لا يصيب الإنسان إلا ما كتب الله عل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وكل على الله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قة به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فويض الأمور إليه بعد فعل الأسب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لا يقضي قضاء لعبده المؤمن إلا كان له في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يرا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ير في قضاء الله لعبده المؤ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ما نعيماً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إما ثواباً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365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عاقبة النفا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ذلة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عذاب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486900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سوء عاقبة النفاق : الذلة في الدنيا والعذاب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1" descr=""/>
          <p:cNvPicPr/>
          <p:nvPr/>
        </p:nvPicPr>
        <p:blipFill>
          <a:blip r:embed="rId2"/>
          <a:stretch/>
        </p:blipFill>
        <p:spPr>
          <a:xfrm>
            <a:off x="1258920" y="5367240"/>
            <a:ext cx="7580160" cy="54936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59547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كاسل عن الصلاة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راهة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459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شبيه ب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 ذل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9780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3284640"/>
            <a:ext cx="868968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نافقين يخططون في هدم الإسلام والإفساد بين المسلمين وإفشاء أسرارهم للأعد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01600" y="1916280"/>
            <a:ext cx="86900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نتظر بكم أن يصيبكم الله بعذاب من عنده أو بأيدي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201600" y="981000"/>
            <a:ext cx="87314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30360"/>
            <a:ext cx="85690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القضاء والقد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444600" y="981000"/>
            <a:ext cx="8520120" cy="67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4"/>
          <a:stretch/>
        </p:blipFill>
        <p:spPr>
          <a:xfrm>
            <a:off x="3571920" y="2908440"/>
            <a:ext cx="5346720" cy="520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5"/>
          <a:stretch/>
        </p:blipFill>
        <p:spPr>
          <a:xfrm>
            <a:off x="687240" y="4508640"/>
            <a:ext cx="8253720" cy="71100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1773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ما النصر وإما الشهاد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351792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عدم إيمانهم بال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33"/>
          <a:stretch/>
        </p:blipFill>
        <p:spPr>
          <a:xfrm>
            <a:off x="250920" y="1484280"/>
            <a:ext cx="86421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987640" y="4878360"/>
            <a:ext cx="3467160" cy="495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ذر من المنافق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3481560" y="907920"/>
            <a:ext cx="5435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250920" y="990720"/>
            <a:ext cx="87138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856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809120" cy="37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0" name="عنوان 1"/>
          <p:cNvSpPr/>
          <p:nvPr/>
        </p:nvSpPr>
        <p:spPr>
          <a:xfrm>
            <a:off x="7956720" y="3716280"/>
            <a:ext cx="960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324000" y="1069920"/>
            <a:ext cx="8569080" cy="390384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3789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37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كم منتظ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35:11Z</dcterms:modified>
  <cp:revision>1841</cp:revision>
  <dc:subject/>
  <dc:title>عرض تقديمي في PowerPoint</dc:title>
</cp:coreProperties>
</file>